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media/image10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7B7D-B385-443D-A3E8-74D0AB83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A114-E433-4D18-BAD7-1A8B596B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D02B1-2E21-4FAC-ACAD-8A04FBD3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0386F-67DB-4178-A289-7D97DF19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7476F-FFC4-4D06-BC70-BB20DBEA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52BD2-0B4A-4AF6-B762-9C52BA19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75A29-4ED5-49BD-A880-AEA3527E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9AFC4-38D3-4FA4-A5AE-B4D02A89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DCD86-248D-4C27-AA5C-4C29D8DC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C6B8D-4FBD-41B6-80AD-FEA95A15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73398-D8AF-41B7-8168-E2694006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3472F-3B21-404A-97EE-51D3B978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46D3-8573-444E-B460-ACE4E468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F5E36-3CC8-4F8B-A0C1-A653CA50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40A3F-EFBD-4EA5-88A8-AB29684A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FFC41-198E-4E16-911E-F6D6530C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EBFB6-B4AC-49B1-9D11-5409B613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37003-6EFA-4A10-9395-38C4D14D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C3646-2307-435D-8F8F-3F5CBB4D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9E650-0D9A-4044-9F88-C56F3AD4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22E45-42F3-4703-A22C-F20B5158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3711F-49A1-4458-B9B8-1482B41D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A4637-EF4E-4E96-85DA-76E60C63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0AF7-11B9-4934-8FB7-70102536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7D447-30A5-4E09-8CCE-E18033C9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93778-D8FE-4E4C-B9AD-E3101B4F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D0351-1C21-4700-BF9E-B89A6ECC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0F07A-2AC8-4AA0-86FA-62C944AF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43C3D-DE76-4BA0-BDA6-9267F115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78B5C-CA86-4642-A9F3-E15DD9CE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E165F-BC7C-4DFC-BA97-E9725C95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A81B5-9565-46EC-96E8-F833EB57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A2163-E40F-4DA6-AA0E-90E69EC9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23FCE-5D71-44E0-90A1-00934E90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4F18-5F0C-4E14-A09A-6C1D128E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594B3-59A7-496A-B909-B71B78A9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FEB36-1808-4965-9D00-9A0675E8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77785-F6FA-43DD-87F8-B810FDA3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167EF-BAA6-427E-B7A3-A7E240DA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C100A-E550-4CB0-AA3D-CA474592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98B60-7FC6-4083-9E43-7D355321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6A412-B417-4B04-8824-38DB1A73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9BBE7-2965-4258-AB6A-65797FD6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50DA6-C99E-4D77-8CC9-F099BCA8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6C361-5BEB-4767-B207-C9F831C6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CB34-94F6-45E5-A4F6-2D44852C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BD72D-B53F-4F1F-9CE5-2CBC9E57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CCD3A-690E-4702-BC6A-794DE06D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0BBAC-7884-44E9-910E-E219B20C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5C42E-9B6D-4AAF-98BD-C0A98392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7763F-4129-4EB1-8611-2B045848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B539-E113-4DA5-9C89-DDE27527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5011-5F26-4A83-B883-13D94BB8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D55B-6304-4399-A93C-AB336BBA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014B-F339-4A8D-B61B-0F851FE9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E97D-960E-451C-B5AB-A6A2D16A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DD1C-C52B-4DBA-AE05-B94A439E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EDF5-EA90-4B44-9CF0-998EF0AA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E3C7-924E-4144-81EF-44F2BCFA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C67D-1E3B-4461-A2C6-033403E4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A7CD-7428-44AC-9AB2-61169F10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A044-A1D1-41C8-9493-C8F92C4B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74F75-CF19-48E8-9F6A-5BA1A772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1EC51-A676-47E0-9515-75590584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36AE6-4C58-4050-818B-1F1E368C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D9162-5B92-4BB7-8ECF-E6785AE1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DB9D4-AA2A-4F28-A350-324EDA6B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9A4A-FD7D-45C1-8DB5-CCEB04DA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1EDE9-D7FF-4A2E-BF61-3C652829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6A75B-F186-42FB-9A2D-79CC85A3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B3E19-7C9A-4F33-9A86-402CAB9A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B1693-6211-4EEF-9EE1-3677FFC0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EE8C6-E80B-44E1-9FAF-423689FA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646A9-7652-4E47-8F42-559A377D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0C7C6-AA05-4CFB-AA79-DFE0A41C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A38AF-EEEB-4702-81C9-570CD46F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FD4E5-7D98-4C00-870D-A3E7DF6B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B4BA8-C34B-4D4C-8036-E0CC7F8D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55E-20FA-4151-990E-C16CF33D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8F418-CC1B-4441-928B-3579701E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88446-4128-4EB1-B847-A39546F6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1844C-F203-481D-8C2C-C88B35B1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E05CB-F72D-4C5F-8A9C-84F671E4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44A66-5A0F-4573-AC73-B66E2D83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A5889-625D-434C-9398-2EC72588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71FB7-F5B5-4F54-8389-D5127B16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D88A5-9032-4538-B1F0-01839EB8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EE1FF-0D90-4884-A9D4-04920500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3E300-CDBC-4676-B3E1-97880BF5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8D40-201B-4A46-BCC0-53E4C932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41F9B-8382-47BF-8169-A1DBCCB2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687D2-E6DB-408E-A7EF-2DD3E2F2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E0C04-2B87-4EAD-925F-77857A76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4F5FD-29B9-438C-82B8-0A53FFCB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BB32C-F255-4E85-AE00-4E95843A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E6D3C-A82F-4A2D-AF57-36D36717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DADA0-FBE4-4CDB-B208-89DB66A3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C2178-35F5-47BC-B124-F9204867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BE8A0-7F78-4CD9-9B70-B2FB4D32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DDFDB-6B81-491C-BC6C-BE3B2F4D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AC96-5A23-4CC2-B0A3-DAFCC67C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FA715-ADB5-4BC7-932A-EA8BB1FE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D8EBD-6A4B-42F8-8257-BEC59553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17895-BAD8-4FE3-A9A4-156E1915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87A59-2DA9-4FC6-BCA7-09CA07ED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2C8CC-B1B5-41E7-B309-892D2976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36183-1600-4E1A-A87B-9972F4A5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F3FE9-AD12-4D77-88B6-2BE2FB56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E0099-EDC8-4903-A0E7-D0789B25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552C9-3F7E-482F-840C-29FCEF55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59E68-0B36-4663-8D60-28CFDCF5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1226-4F9E-4103-A421-611A627E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A02C3-F491-4570-B737-0A76232C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8E997-6398-466F-A096-508F044F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7308E-C011-4E95-A8AD-878C328F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DC96E-1C53-4235-BF98-34EC1DE0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21416-5CE4-412F-B48A-BABDD8B8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84393-B29B-419C-B7FA-B77EB095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F283F-A61F-4FA8-9C53-A7FFC135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546DD-875A-4CA7-9B5C-F998FC88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414DB-69FC-46EF-9F5F-4DA232AE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0F97F-73D8-4772-8A5F-D16BAC76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D4F9-F6E5-492A-99FE-E8970931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426FB-81C9-4F10-BFEA-C9DFF0F1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9EF2F-8162-4292-B09C-A952DE70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4589F-0D15-4D7E-ADFC-2F513662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B3154-D5BE-427E-8EF1-2CFE2C71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763A5-5545-46EC-A7FD-0B241243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1CA77-5EBB-438C-B10A-292A650B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15F54-A73F-4381-999A-93CE0463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7AFFE-C55A-42F3-9C10-7B65E1DA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D8C0C-6666-4CCC-BCA9-07CCD651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FBCC3-67CD-4C64-AA39-3D1CF9FD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D102-5423-47D9-9859-739510C7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2CEC6-F012-4242-BF51-64753E1D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A5BEE-5E61-40AA-B201-E4166764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41F28-569E-434D-B0E4-149E62F2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52007-4528-4BD1-BBD1-5EBB0C76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466B2-317F-49A2-983B-BEF85BD2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AF7D4-C3A6-4E0F-A9C0-03610C28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90BDE-8B53-437B-BB4E-775EB670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6E2FC-182F-488D-9C01-81B487C7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C8266-17D5-4B22-93BA-26D32CB2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50BEF-CE35-4889-B0CB-649966F9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584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584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584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584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584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584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584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2720-3FF3-4E4A-A4B1-DE3F3206081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C241-10DE-4B74-8F35-4297E719BB0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126C-0FE3-4759-9801-CAA1A35F39D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0402-5870-4AA5-BBBE-3302C5DE0CF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36865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36866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36867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6868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6869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6870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6871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3114-6D16-4D1F-BCCC-F3EF0BD752F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4C26-F4D1-4D7B-9F92-E7B405B2ADA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08BE-6556-40D4-9221-B6477AC6818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1B35-1009-4D9D-8431-A251642E01C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A942-BE2A-44B4-864E-AFAFD551BB1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4A08-E086-4C0F-8389-379367038D5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CBFE-3B39-4030-AB76-C3B9ED7B0DF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B1D8-3EB9-4E57-B608-1592049C90E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1"/>
          <p:cNvSpPr/>
          <p:nvPr/>
        </p:nvSpPr>
        <p:spPr>
          <a:xfrm>
            <a:off x="1476360" y="16286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2 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坐井观天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07" name="图片 2" descr=""/>
          <p:cNvPicPr/>
          <p:nvPr/>
        </p:nvPicPr>
        <p:blipFill>
          <a:blip r:embed="rId1"/>
          <a:stretch/>
        </p:blipFill>
        <p:spPr>
          <a:xfrm>
            <a:off x="2192400" y="2444760"/>
            <a:ext cx="486864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矩形 3"/>
          <p:cNvSpPr/>
          <p:nvPr/>
        </p:nvSpPr>
        <p:spPr>
          <a:xfrm>
            <a:off x="1035000" y="2492280"/>
            <a:ext cx="69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看准每个字在田字格里的位置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看清每个字的结构，放慢速度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3.</a:t>
            </a: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严格按笔顺描写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45" name="矩形 4" descr=""/>
          <p:cNvPicPr/>
          <p:nvPr/>
        </p:nvPicPr>
        <p:blipFill>
          <a:blip r:embed="rId1"/>
          <a:stretch/>
        </p:blipFill>
        <p:spPr>
          <a:xfrm>
            <a:off x="1035000" y="1482840"/>
            <a:ext cx="2621160" cy="7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矩形 3"/>
          <p:cNvSpPr/>
          <p:nvPr/>
        </p:nvSpPr>
        <p:spPr>
          <a:xfrm>
            <a:off x="237960" y="1413000"/>
            <a:ext cx="883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小组合作学习课文的第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2—7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自然段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,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要求：  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分角色朗读课文；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用不同的符号画出小鸟和青蛙说的话；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3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找出小鸟和小青蛙的三次对话，想想它们为什么对天的看法不一样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8" name="矩形 1"/>
          <p:cNvSpPr/>
          <p:nvPr/>
        </p:nvSpPr>
        <p:spPr>
          <a:xfrm>
            <a:off x="5385240" y="324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33cc"/>
                </a:solidFill>
                <a:uFillTx/>
                <a:latin typeface="Calibri"/>
                <a:ea typeface="宋体"/>
              </a:rPr>
              <a:t>朗读感悟，细读课文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矩形 2"/>
          <p:cNvSpPr/>
          <p:nvPr/>
        </p:nvSpPr>
        <p:spPr>
          <a:xfrm>
            <a:off x="6435720" y="2667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cc"/>
                </a:solidFill>
                <a:uFillTx/>
                <a:latin typeface="Calibri"/>
                <a:ea typeface="宋体"/>
              </a:rPr>
              <a:t>第一次对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1"/>
          <a:stretch/>
        </p:blipFill>
        <p:spPr>
          <a:xfrm>
            <a:off x="714240" y="1052640"/>
            <a:ext cx="8425080" cy="5256000"/>
          </a:xfrm>
          <a:prstGeom prst="rect">
            <a:avLst/>
          </a:prstGeom>
          <a:ln w="0">
            <a:noFill/>
          </a:ln>
        </p:spPr>
      </p:pic>
      <p:sp>
        <p:nvSpPr>
          <p:cNvPr id="651" name="云形 7"/>
          <p:cNvSpPr/>
          <p:nvPr/>
        </p:nvSpPr>
        <p:spPr>
          <a:xfrm>
            <a:off x="4535640" y="4076640"/>
            <a:ext cx="2714400" cy="1513080"/>
          </a:xfrm>
          <a:prstGeom prst="pie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你从哪儿来呀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?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2" name="云形 8"/>
          <p:cNvSpPr/>
          <p:nvPr/>
        </p:nvSpPr>
        <p:spPr>
          <a:xfrm>
            <a:off x="395280" y="1120680"/>
            <a:ext cx="4968720" cy="2975040"/>
          </a:xfrm>
          <a:prstGeom prst="pie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我从天上来，飞了一百多里，口渴了，下来找点儿水喝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图片 9" descr=""/>
          <p:cNvPicPr/>
          <p:nvPr/>
        </p:nvPicPr>
        <p:blipFill>
          <a:blip r:embed="rId1"/>
          <a:stretch/>
        </p:blipFill>
        <p:spPr>
          <a:xfrm>
            <a:off x="5292720" y="3908520"/>
            <a:ext cx="3846600" cy="2400120"/>
          </a:xfrm>
          <a:prstGeom prst="rect">
            <a:avLst/>
          </a:prstGeom>
          <a:ln w="0">
            <a:noFill/>
          </a:ln>
        </p:spPr>
      </p:pic>
      <p:sp>
        <p:nvSpPr>
          <p:cNvPr id="654" name="矩形 12"/>
          <p:cNvSpPr/>
          <p:nvPr/>
        </p:nvSpPr>
        <p:spPr>
          <a:xfrm>
            <a:off x="461880" y="4764240"/>
            <a:ext cx="4861080" cy="11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分别用横线和波浪线画出青蛙小鸟各自的观点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5" name="矩形 13"/>
          <p:cNvSpPr/>
          <p:nvPr/>
        </p:nvSpPr>
        <p:spPr>
          <a:xfrm>
            <a:off x="5978520" y="2667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cc"/>
                </a:solidFill>
                <a:uFillTx/>
                <a:latin typeface="Calibri"/>
                <a:ea typeface="宋体"/>
              </a:rPr>
              <a:t>第二次对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6" name="矩形 1"/>
          <p:cNvSpPr/>
          <p:nvPr/>
        </p:nvSpPr>
        <p:spPr>
          <a:xfrm>
            <a:off x="673200" y="1557360"/>
            <a:ext cx="8213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青蛙说：“朋友，别说大话了！天不过井口那么大，还用飞那么远吗？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小鸟说：“你弄错了。天无边无际，大得很哪！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图片 9" descr=""/>
          <p:cNvPicPr/>
          <p:nvPr/>
        </p:nvPicPr>
        <p:blipFill>
          <a:blip r:embed="rId1"/>
          <a:stretch/>
        </p:blipFill>
        <p:spPr>
          <a:xfrm>
            <a:off x="5292720" y="3908520"/>
            <a:ext cx="3846600" cy="2400120"/>
          </a:xfrm>
          <a:prstGeom prst="rect">
            <a:avLst/>
          </a:prstGeom>
          <a:ln w="0">
            <a:noFill/>
          </a:ln>
        </p:spPr>
      </p:pic>
      <p:sp>
        <p:nvSpPr>
          <p:cNvPr id="658" name="矩形 12"/>
          <p:cNvSpPr/>
          <p:nvPr/>
        </p:nvSpPr>
        <p:spPr>
          <a:xfrm>
            <a:off x="803160" y="4508640"/>
            <a:ext cx="4464000" cy="91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一</a:t>
            </a:r>
            <a:r>
              <a:rPr b="0" i="1" lang="en-US" sz="54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……</a:t>
            </a:r>
            <a:r>
              <a:rPr b="0" i="1" lang="zh-CN" sz="54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就</a:t>
            </a:r>
            <a:r>
              <a:rPr b="0" i="1" lang="en-US" sz="54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……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9" name="矩形 4"/>
          <p:cNvSpPr/>
          <p:nvPr/>
        </p:nvSpPr>
        <p:spPr>
          <a:xfrm>
            <a:off x="5978520" y="2667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cc"/>
                </a:solidFill>
                <a:uFillTx/>
                <a:latin typeface="Calibri"/>
                <a:ea typeface="宋体"/>
              </a:rPr>
              <a:t>第三次对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0" name="矩形 5"/>
          <p:cNvSpPr/>
          <p:nvPr/>
        </p:nvSpPr>
        <p:spPr>
          <a:xfrm>
            <a:off x="504720" y="1155600"/>
            <a:ext cx="863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青蛙笑了，说：“朋友，我天天坐在井里，一抬头就看见天。我不会弄错的。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小鸟也笑了，说：“朋友，你是弄错了。不信，你跳出井口来看一看吧。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矩形 3"/>
          <p:cNvSpPr/>
          <p:nvPr/>
        </p:nvSpPr>
        <p:spPr>
          <a:xfrm>
            <a:off x="1528560" y="1674720"/>
            <a:ext cx="26496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cc"/>
                </a:solidFill>
                <a:uFillTx/>
                <a:latin typeface="华文彩云"/>
                <a:ea typeface="华文彩云"/>
              </a:rPr>
              <a:t>拓展学习，巩固提高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2" name="矩形 4"/>
          <p:cNvSpPr/>
          <p:nvPr/>
        </p:nvSpPr>
        <p:spPr>
          <a:xfrm>
            <a:off x="2050920" y="2565360"/>
            <a:ext cx="626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学习了这篇课文，你能说说“坐井观天”的含义吗？从中你学到了什么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63" name="图片 1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1462320" cy="198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5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75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75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5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75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75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矩形 3"/>
          <p:cNvSpPr/>
          <p:nvPr/>
        </p:nvSpPr>
        <p:spPr>
          <a:xfrm>
            <a:off x="1621440" y="1773360"/>
            <a:ext cx="26496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cc"/>
                </a:solidFill>
                <a:uFillTx/>
                <a:latin typeface="华文彩云"/>
                <a:ea typeface="华文彩云"/>
              </a:rPr>
              <a:t>拓展学习，巩固提高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5" name="矩形 4"/>
          <p:cNvSpPr/>
          <p:nvPr/>
        </p:nvSpPr>
        <p:spPr>
          <a:xfrm>
            <a:off x="2952720" y="270828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想一想，你觉得自己有像青蛙的地方吗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66" name="图片 5" descr=""/>
          <p:cNvPicPr/>
          <p:nvPr/>
        </p:nvPicPr>
        <p:blipFill>
          <a:blip r:embed="rId1"/>
          <a:stretch/>
        </p:blipFill>
        <p:spPr>
          <a:xfrm>
            <a:off x="1247760" y="3141720"/>
            <a:ext cx="1461960" cy="198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5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75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75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9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矩形 3"/>
          <p:cNvSpPr/>
          <p:nvPr/>
        </p:nvSpPr>
        <p:spPr>
          <a:xfrm>
            <a:off x="1619280" y="1628640"/>
            <a:ext cx="26496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cc"/>
                </a:solidFill>
                <a:uFillTx/>
                <a:latin typeface="华文彩云"/>
                <a:ea typeface="华文彩云"/>
              </a:rPr>
              <a:t>拓展学习，巩固提高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8" name="矩形 4"/>
          <p:cNvSpPr/>
          <p:nvPr/>
        </p:nvSpPr>
        <p:spPr>
          <a:xfrm>
            <a:off x="774720" y="2205000"/>
            <a:ext cx="734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3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小组合作，续编第四次对话：如果青蛙真的跳出井口，它会看到什么，会说些什么呢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图片 1" descr=""/>
          <p:cNvPicPr/>
          <p:nvPr/>
        </p:nvPicPr>
        <p:blipFill>
          <a:blip r:embed="rId1"/>
          <a:stretch/>
        </p:blipFill>
        <p:spPr>
          <a:xfrm>
            <a:off x="5148360" y="2565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670" name="矩形 2"/>
          <p:cNvSpPr/>
          <p:nvPr/>
        </p:nvSpPr>
        <p:spPr>
          <a:xfrm>
            <a:off x="3060000" y="2254320"/>
            <a:ext cx="2283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3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再见</a:t>
            </a:r>
            <a:endParaRPr b="0" i="1" lang="en-US" sz="13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标题 1"/>
          <p:cNvSpPr/>
          <p:nvPr/>
        </p:nvSpPr>
        <p:spPr>
          <a:xfrm>
            <a:off x="61128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第一课时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3"/>
          <p:cNvSpPr/>
          <p:nvPr/>
        </p:nvSpPr>
        <p:spPr>
          <a:xfrm>
            <a:off x="611280" y="1557360"/>
            <a:ext cx="8064360" cy="137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   </a:t>
            </a:r>
            <a:r>
              <a:rPr b="0" i="1" lang="zh-CN" sz="4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寓言故事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就是有明显教训意义的故事。它的结构简短，多用借喻手法，使富有教训意义的主题或深刻的道理在简单的故事中体现。中国历来有些著名的寓言故事如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《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揠苗助长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》《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自相矛盾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》《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郑人买履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》《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守株待兔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》《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刻舟求剑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》《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画蛇添足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》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等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0" name="矩形 5" descr=""/>
          <p:cNvPicPr/>
          <p:nvPr/>
        </p:nvPicPr>
        <p:blipFill>
          <a:blip r:embed="rId1"/>
          <a:stretch/>
        </p:blipFill>
        <p:spPr>
          <a:xfrm>
            <a:off x="5940360" y="331920"/>
            <a:ext cx="1701720" cy="64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矩形 5" descr=""/>
          <p:cNvPicPr/>
          <p:nvPr/>
        </p:nvPicPr>
        <p:blipFill>
          <a:blip r:embed="rId1"/>
          <a:stretch/>
        </p:blipFill>
        <p:spPr>
          <a:xfrm>
            <a:off x="581040" y="1123920"/>
            <a:ext cx="2152800" cy="647640"/>
          </a:xfrm>
          <a:prstGeom prst="rect">
            <a:avLst/>
          </a:prstGeom>
          <a:ln w="0">
            <a:noFill/>
          </a:ln>
        </p:spPr>
      </p:pic>
      <p:sp>
        <p:nvSpPr>
          <p:cNvPr id="512" name="矩形 2"/>
          <p:cNvSpPr/>
          <p:nvPr/>
        </p:nvSpPr>
        <p:spPr>
          <a:xfrm>
            <a:off x="581040" y="1805040"/>
            <a:ext cx="8209080" cy="33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自由朗读课文并完成下列任务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不认识的字可以看拼音，或者请教老师和同学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;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读准每一个字的字音，圈出生字词；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3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读通每个句子，读不通顺的多读几遍；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4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给每个自然段写上序号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矩形 5"/>
          <p:cNvSpPr/>
          <p:nvPr/>
        </p:nvSpPr>
        <p:spPr>
          <a:xfrm>
            <a:off x="826920" y="1700280"/>
            <a:ext cx="6751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井       观       沿    答  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喝       渴       话      际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4" name="矩形 6"/>
          <p:cNvSpPr/>
          <p:nvPr/>
        </p:nvSpPr>
        <p:spPr>
          <a:xfrm>
            <a:off x="-846000" y="1076400"/>
            <a:ext cx="842472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0000cc"/>
                </a:solidFill>
                <a:uFillTx/>
                <a:latin typeface="Times New Roman"/>
                <a:ea typeface="宋体"/>
              </a:rPr>
              <a:t>         </a:t>
            </a:r>
            <a:r>
              <a:rPr b="0" i="1" lang="en-US" sz="54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j</a:t>
            </a:r>
            <a:r>
              <a:rPr b="0" i="1" lang="en-US" sz="5400" spc="-1" strike="noStrike" u="sng">
                <a:solidFill>
                  <a:srgbClr val="00b050"/>
                </a:solidFill>
                <a:uFillTx/>
                <a:latin typeface="Arial"/>
                <a:ea typeface="宋体"/>
              </a:rPr>
              <a:t>ǐnɡ</a:t>
            </a:r>
            <a:r>
              <a:rPr b="0" i="1" lang="en-US" sz="54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   ɡu</a:t>
            </a:r>
            <a:r>
              <a:rPr b="0" i="1" lang="en-US" sz="5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ān</a:t>
            </a:r>
            <a:r>
              <a:rPr b="0" i="1" lang="en-US" sz="54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   y</a:t>
            </a:r>
            <a:r>
              <a:rPr b="0" i="1" lang="en-US" sz="5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án</a:t>
            </a:r>
            <a:r>
              <a:rPr b="0" i="1" lang="en-US" sz="54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   dá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en-US" sz="54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hē        kě       huà     jì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617040" y="1916280"/>
            <a:ext cx="853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弄错   回答   哪  抬头   井沿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口渴   喝水   大话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无边无际   坐井观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图片 1" descr=""/>
          <p:cNvPicPr/>
          <p:nvPr/>
        </p:nvPicPr>
        <p:blipFill>
          <a:blip r:embed="rId1"/>
          <a:stretch/>
        </p:blipFill>
        <p:spPr>
          <a:xfrm>
            <a:off x="5867280" y="3033720"/>
            <a:ext cx="2509920" cy="22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900000" y="2707920"/>
            <a:ext cx="79200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故事讲的是谁和谁的故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青蛙为什么说天只有井口那么大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标题 1"/>
          <p:cNvSpPr/>
          <p:nvPr/>
        </p:nvSpPr>
        <p:spPr>
          <a:xfrm>
            <a:off x="0" y="1413000"/>
            <a:ext cx="43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cc"/>
                </a:solidFill>
                <a:uFillTx/>
                <a:latin typeface="华文彩云"/>
                <a:ea typeface="华文彩云"/>
              </a:rPr>
              <a:t>学习提示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7" descr="t016776e8f4052c6342.gif"/>
          <p:cNvPicPr/>
          <p:nvPr/>
        </p:nvPicPr>
        <p:blipFill>
          <a:blip r:embed="rId1"/>
          <a:stretch/>
        </p:blipFill>
        <p:spPr>
          <a:xfrm>
            <a:off x="511200" y="3789360"/>
            <a:ext cx="1962000" cy="1962000"/>
          </a:xfrm>
          <a:prstGeom prst="rect">
            <a:avLst/>
          </a:prstGeom>
          <a:ln w="0">
            <a:noFill/>
          </a:ln>
        </p:spPr>
      </p:pic>
      <p:sp>
        <p:nvSpPr>
          <p:cNvPr id="520" name="矩形 8"/>
          <p:cNvSpPr/>
          <p:nvPr/>
        </p:nvSpPr>
        <p:spPr>
          <a:xfrm>
            <a:off x="5846040" y="555480"/>
            <a:ext cx="1521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63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写字有方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21" name="Group 29"/>
          <p:cNvGrpSpPr/>
          <p:nvPr/>
        </p:nvGrpSpPr>
        <p:grpSpPr>
          <a:xfrm>
            <a:off x="2297160" y="1859040"/>
            <a:ext cx="1504800" cy="1360440"/>
            <a:chOff x="2297160" y="1859040"/>
            <a:chExt cx="1504800" cy="1360440"/>
          </a:xfrm>
        </p:grpSpPr>
        <p:sp>
          <p:nvSpPr>
            <p:cNvPr id="522" name="Rectangle 30"/>
            <p:cNvSpPr/>
            <p:nvPr/>
          </p:nvSpPr>
          <p:spPr>
            <a:xfrm>
              <a:off x="3049560" y="2533680"/>
              <a:ext cx="75204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3" name="Rectangle 31"/>
            <p:cNvSpPr/>
            <p:nvPr/>
          </p:nvSpPr>
          <p:spPr>
            <a:xfrm>
              <a:off x="2297160" y="2533680"/>
              <a:ext cx="7524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4" name="Rectangle 32"/>
            <p:cNvSpPr/>
            <p:nvPr/>
          </p:nvSpPr>
          <p:spPr>
            <a:xfrm>
              <a:off x="3049560" y="1859040"/>
              <a:ext cx="7520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5" name="Rectangle 33"/>
            <p:cNvSpPr/>
            <p:nvPr/>
          </p:nvSpPr>
          <p:spPr>
            <a:xfrm>
              <a:off x="2297160" y="1859040"/>
              <a:ext cx="75240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6" name="Line 34"/>
            <p:cNvSpPr/>
            <p:nvPr/>
          </p:nvSpPr>
          <p:spPr>
            <a:xfrm>
              <a:off x="2297160" y="185904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7" name="Line 35"/>
            <p:cNvSpPr/>
            <p:nvPr/>
          </p:nvSpPr>
          <p:spPr>
            <a:xfrm>
              <a:off x="2297160" y="2533680"/>
              <a:ext cx="1504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8" name="Line 36"/>
            <p:cNvSpPr/>
            <p:nvPr/>
          </p:nvSpPr>
          <p:spPr>
            <a:xfrm>
              <a:off x="2297160" y="321948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9" name="Line 37"/>
            <p:cNvSpPr/>
            <p:nvPr/>
          </p:nvSpPr>
          <p:spPr>
            <a:xfrm>
              <a:off x="229716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0" name="Line 38"/>
            <p:cNvSpPr/>
            <p:nvPr/>
          </p:nvSpPr>
          <p:spPr>
            <a:xfrm>
              <a:off x="3049560" y="185904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1" name="Line 39"/>
            <p:cNvSpPr/>
            <p:nvPr/>
          </p:nvSpPr>
          <p:spPr>
            <a:xfrm>
              <a:off x="380196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32" name="Text Box 40"/>
          <p:cNvSpPr/>
          <p:nvPr/>
        </p:nvSpPr>
        <p:spPr>
          <a:xfrm>
            <a:off x="2362320" y="174960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井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33" name="Group 29"/>
          <p:cNvGrpSpPr/>
          <p:nvPr/>
        </p:nvGrpSpPr>
        <p:grpSpPr>
          <a:xfrm>
            <a:off x="3852720" y="1859040"/>
            <a:ext cx="1503360" cy="1360440"/>
            <a:chOff x="3852720" y="1859040"/>
            <a:chExt cx="1503360" cy="1360440"/>
          </a:xfrm>
        </p:grpSpPr>
        <p:sp>
          <p:nvSpPr>
            <p:cNvPr id="534" name="Rectangle 30"/>
            <p:cNvSpPr/>
            <p:nvPr/>
          </p:nvSpPr>
          <p:spPr>
            <a:xfrm>
              <a:off x="4604400" y="253368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5" name="Rectangle 31"/>
            <p:cNvSpPr/>
            <p:nvPr/>
          </p:nvSpPr>
          <p:spPr>
            <a:xfrm>
              <a:off x="3852720" y="253368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6" name="Rectangle 32"/>
            <p:cNvSpPr/>
            <p:nvPr/>
          </p:nvSpPr>
          <p:spPr>
            <a:xfrm>
              <a:off x="4604400" y="185904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7" name="Rectangle 33"/>
            <p:cNvSpPr/>
            <p:nvPr/>
          </p:nvSpPr>
          <p:spPr>
            <a:xfrm>
              <a:off x="3852720" y="185904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8" name="Line 34"/>
            <p:cNvSpPr/>
            <p:nvPr/>
          </p:nvSpPr>
          <p:spPr>
            <a:xfrm>
              <a:off x="3852720" y="185904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9" name="Line 35"/>
            <p:cNvSpPr/>
            <p:nvPr/>
          </p:nvSpPr>
          <p:spPr>
            <a:xfrm>
              <a:off x="3852720" y="253368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0" name="Line 36"/>
            <p:cNvSpPr/>
            <p:nvPr/>
          </p:nvSpPr>
          <p:spPr>
            <a:xfrm>
              <a:off x="3852720" y="321948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1" name="Line 37"/>
            <p:cNvSpPr/>
            <p:nvPr/>
          </p:nvSpPr>
          <p:spPr>
            <a:xfrm>
              <a:off x="385272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2" name="Line 38"/>
            <p:cNvSpPr/>
            <p:nvPr/>
          </p:nvSpPr>
          <p:spPr>
            <a:xfrm>
              <a:off x="4604400" y="185904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3" name="Line 39"/>
            <p:cNvSpPr/>
            <p:nvPr/>
          </p:nvSpPr>
          <p:spPr>
            <a:xfrm>
              <a:off x="535608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4" name="Text Box 40"/>
          <p:cNvSpPr/>
          <p:nvPr/>
        </p:nvSpPr>
        <p:spPr>
          <a:xfrm>
            <a:off x="3916440" y="1749600"/>
            <a:ext cx="151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观 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45" name="Group 29"/>
          <p:cNvGrpSpPr/>
          <p:nvPr/>
        </p:nvGrpSpPr>
        <p:grpSpPr>
          <a:xfrm>
            <a:off x="5432400" y="1859040"/>
            <a:ext cx="1503360" cy="1360440"/>
            <a:chOff x="5432400" y="1859040"/>
            <a:chExt cx="1503360" cy="1360440"/>
          </a:xfrm>
        </p:grpSpPr>
        <p:sp>
          <p:nvSpPr>
            <p:cNvPr id="546" name="Rectangle 30"/>
            <p:cNvSpPr/>
            <p:nvPr/>
          </p:nvSpPr>
          <p:spPr>
            <a:xfrm>
              <a:off x="6184080" y="253368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7" name="Rectangle 31"/>
            <p:cNvSpPr/>
            <p:nvPr/>
          </p:nvSpPr>
          <p:spPr>
            <a:xfrm>
              <a:off x="5432400" y="253368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8" name="Rectangle 32"/>
            <p:cNvSpPr/>
            <p:nvPr/>
          </p:nvSpPr>
          <p:spPr>
            <a:xfrm>
              <a:off x="6184080" y="185904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9" name="Rectangle 33"/>
            <p:cNvSpPr/>
            <p:nvPr/>
          </p:nvSpPr>
          <p:spPr>
            <a:xfrm>
              <a:off x="5432400" y="185904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0" name="Line 34"/>
            <p:cNvSpPr/>
            <p:nvPr/>
          </p:nvSpPr>
          <p:spPr>
            <a:xfrm>
              <a:off x="5432400" y="185904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1" name="Line 35"/>
            <p:cNvSpPr/>
            <p:nvPr/>
          </p:nvSpPr>
          <p:spPr>
            <a:xfrm>
              <a:off x="5432400" y="253368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2" name="Line 36"/>
            <p:cNvSpPr/>
            <p:nvPr/>
          </p:nvSpPr>
          <p:spPr>
            <a:xfrm>
              <a:off x="5432400" y="321948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3" name="Line 37"/>
            <p:cNvSpPr/>
            <p:nvPr/>
          </p:nvSpPr>
          <p:spPr>
            <a:xfrm>
              <a:off x="543240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4" name="Line 38"/>
            <p:cNvSpPr/>
            <p:nvPr/>
          </p:nvSpPr>
          <p:spPr>
            <a:xfrm>
              <a:off x="6184080" y="185904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5" name="Line 39"/>
            <p:cNvSpPr/>
            <p:nvPr/>
          </p:nvSpPr>
          <p:spPr>
            <a:xfrm>
              <a:off x="693576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6" name="Text Box 40"/>
          <p:cNvSpPr/>
          <p:nvPr/>
        </p:nvSpPr>
        <p:spPr>
          <a:xfrm>
            <a:off x="5495760" y="1749600"/>
            <a:ext cx="15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沿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57" name="Group 29"/>
          <p:cNvGrpSpPr/>
          <p:nvPr/>
        </p:nvGrpSpPr>
        <p:grpSpPr>
          <a:xfrm>
            <a:off x="7012080" y="1855800"/>
            <a:ext cx="1503360" cy="1359000"/>
            <a:chOff x="7012080" y="1855800"/>
            <a:chExt cx="1503360" cy="1359000"/>
          </a:xfrm>
        </p:grpSpPr>
        <p:sp>
          <p:nvSpPr>
            <p:cNvPr id="558" name="Rectangle 30"/>
            <p:cNvSpPr/>
            <p:nvPr/>
          </p:nvSpPr>
          <p:spPr>
            <a:xfrm>
              <a:off x="7763760" y="2529720"/>
              <a:ext cx="75132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9" name="Rectangle 31"/>
            <p:cNvSpPr/>
            <p:nvPr/>
          </p:nvSpPr>
          <p:spPr>
            <a:xfrm>
              <a:off x="7012080" y="2529720"/>
              <a:ext cx="75168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0" name="Rectangle 32"/>
            <p:cNvSpPr/>
            <p:nvPr/>
          </p:nvSpPr>
          <p:spPr>
            <a:xfrm>
              <a:off x="7763760" y="1855800"/>
              <a:ext cx="75132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1" name="Rectangle 33"/>
            <p:cNvSpPr/>
            <p:nvPr/>
          </p:nvSpPr>
          <p:spPr>
            <a:xfrm>
              <a:off x="7012080" y="1855800"/>
              <a:ext cx="75168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2" name="Line 34"/>
            <p:cNvSpPr/>
            <p:nvPr/>
          </p:nvSpPr>
          <p:spPr>
            <a:xfrm>
              <a:off x="7012080" y="185580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3" name="Line 35"/>
            <p:cNvSpPr/>
            <p:nvPr/>
          </p:nvSpPr>
          <p:spPr>
            <a:xfrm>
              <a:off x="7012080" y="252972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4" name="Line 36"/>
            <p:cNvSpPr/>
            <p:nvPr/>
          </p:nvSpPr>
          <p:spPr>
            <a:xfrm>
              <a:off x="7012080" y="321480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5" name="Line 37"/>
            <p:cNvSpPr/>
            <p:nvPr/>
          </p:nvSpPr>
          <p:spPr>
            <a:xfrm>
              <a:off x="7012080" y="1855800"/>
              <a:ext cx="0" cy="13590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6" name="Line 38"/>
            <p:cNvSpPr/>
            <p:nvPr/>
          </p:nvSpPr>
          <p:spPr>
            <a:xfrm>
              <a:off x="7763760" y="18558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7" name="Line 39"/>
            <p:cNvSpPr/>
            <p:nvPr/>
          </p:nvSpPr>
          <p:spPr>
            <a:xfrm>
              <a:off x="8515440" y="1855800"/>
              <a:ext cx="0" cy="13590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68" name="Text Box 40"/>
          <p:cNvSpPr/>
          <p:nvPr/>
        </p:nvSpPr>
        <p:spPr>
          <a:xfrm>
            <a:off x="7075440" y="1744560"/>
            <a:ext cx="15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答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69" name="Group 29"/>
          <p:cNvGrpSpPr/>
          <p:nvPr/>
        </p:nvGrpSpPr>
        <p:grpSpPr>
          <a:xfrm>
            <a:off x="2297160" y="3759120"/>
            <a:ext cx="1504800" cy="1360440"/>
            <a:chOff x="2297160" y="3759120"/>
            <a:chExt cx="1504800" cy="1360440"/>
          </a:xfrm>
        </p:grpSpPr>
        <p:sp>
          <p:nvSpPr>
            <p:cNvPr id="570" name="Rectangle 30"/>
            <p:cNvSpPr/>
            <p:nvPr/>
          </p:nvSpPr>
          <p:spPr>
            <a:xfrm>
              <a:off x="3049560" y="4433760"/>
              <a:ext cx="75204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1" name="Rectangle 31"/>
            <p:cNvSpPr/>
            <p:nvPr/>
          </p:nvSpPr>
          <p:spPr>
            <a:xfrm>
              <a:off x="2297160" y="4433760"/>
              <a:ext cx="7524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2" name="Rectangle 32"/>
            <p:cNvSpPr/>
            <p:nvPr/>
          </p:nvSpPr>
          <p:spPr>
            <a:xfrm>
              <a:off x="3049560" y="3759120"/>
              <a:ext cx="7520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3" name="Rectangle 33"/>
            <p:cNvSpPr/>
            <p:nvPr/>
          </p:nvSpPr>
          <p:spPr>
            <a:xfrm>
              <a:off x="2297160" y="3759120"/>
              <a:ext cx="75240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4" name="Line 34"/>
            <p:cNvSpPr/>
            <p:nvPr/>
          </p:nvSpPr>
          <p:spPr>
            <a:xfrm>
              <a:off x="2297160" y="375912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5" name="Line 35"/>
            <p:cNvSpPr/>
            <p:nvPr/>
          </p:nvSpPr>
          <p:spPr>
            <a:xfrm>
              <a:off x="2297160" y="4433760"/>
              <a:ext cx="1504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6" name="Line 36"/>
            <p:cNvSpPr/>
            <p:nvPr/>
          </p:nvSpPr>
          <p:spPr>
            <a:xfrm>
              <a:off x="2297160" y="511956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7" name="Line 37"/>
            <p:cNvSpPr/>
            <p:nvPr/>
          </p:nvSpPr>
          <p:spPr>
            <a:xfrm>
              <a:off x="229716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8" name="Line 38"/>
            <p:cNvSpPr/>
            <p:nvPr/>
          </p:nvSpPr>
          <p:spPr>
            <a:xfrm>
              <a:off x="3049560" y="375912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9" name="Line 39"/>
            <p:cNvSpPr/>
            <p:nvPr/>
          </p:nvSpPr>
          <p:spPr>
            <a:xfrm>
              <a:off x="380196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80" name="Text Box 40"/>
          <p:cNvSpPr/>
          <p:nvPr/>
        </p:nvSpPr>
        <p:spPr>
          <a:xfrm>
            <a:off x="2362320" y="364968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渴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81" name="Group 29"/>
          <p:cNvGrpSpPr/>
          <p:nvPr/>
        </p:nvGrpSpPr>
        <p:grpSpPr>
          <a:xfrm>
            <a:off x="3852720" y="3759120"/>
            <a:ext cx="1503360" cy="1360440"/>
            <a:chOff x="3852720" y="3759120"/>
            <a:chExt cx="1503360" cy="1360440"/>
          </a:xfrm>
        </p:grpSpPr>
        <p:sp>
          <p:nvSpPr>
            <p:cNvPr id="582" name="Rectangle 30"/>
            <p:cNvSpPr/>
            <p:nvPr/>
          </p:nvSpPr>
          <p:spPr>
            <a:xfrm>
              <a:off x="4604400" y="443376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3" name="Rectangle 31"/>
            <p:cNvSpPr/>
            <p:nvPr/>
          </p:nvSpPr>
          <p:spPr>
            <a:xfrm>
              <a:off x="3852720" y="443376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4" name="Rectangle 32"/>
            <p:cNvSpPr/>
            <p:nvPr/>
          </p:nvSpPr>
          <p:spPr>
            <a:xfrm>
              <a:off x="4604400" y="375912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5" name="Rectangle 33"/>
            <p:cNvSpPr/>
            <p:nvPr/>
          </p:nvSpPr>
          <p:spPr>
            <a:xfrm>
              <a:off x="3852720" y="375912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6" name="Line 34"/>
            <p:cNvSpPr/>
            <p:nvPr/>
          </p:nvSpPr>
          <p:spPr>
            <a:xfrm>
              <a:off x="3852720" y="375912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7" name="Line 35"/>
            <p:cNvSpPr/>
            <p:nvPr/>
          </p:nvSpPr>
          <p:spPr>
            <a:xfrm>
              <a:off x="3852720" y="443376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8" name="Line 36"/>
            <p:cNvSpPr/>
            <p:nvPr/>
          </p:nvSpPr>
          <p:spPr>
            <a:xfrm>
              <a:off x="3852720" y="511956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9" name="Line 37"/>
            <p:cNvSpPr/>
            <p:nvPr/>
          </p:nvSpPr>
          <p:spPr>
            <a:xfrm>
              <a:off x="385272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0" name="Line 38"/>
            <p:cNvSpPr/>
            <p:nvPr/>
          </p:nvSpPr>
          <p:spPr>
            <a:xfrm>
              <a:off x="4604400" y="375912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1" name="Line 39"/>
            <p:cNvSpPr/>
            <p:nvPr/>
          </p:nvSpPr>
          <p:spPr>
            <a:xfrm>
              <a:off x="535608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3916440" y="3649680"/>
            <a:ext cx="151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喝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93" name="Group 29"/>
          <p:cNvGrpSpPr/>
          <p:nvPr/>
        </p:nvGrpSpPr>
        <p:grpSpPr>
          <a:xfrm>
            <a:off x="5432400" y="3759120"/>
            <a:ext cx="1503360" cy="1360440"/>
            <a:chOff x="5432400" y="3759120"/>
            <a:chExt cx="1503360" cy="1360440"/>
          </a:xfrm>
        </p:grpSpPr>
        <p:sp>
          <p:nvSpPr>
            <p:cNvPr id="594" name="Rectangle 30"/>
            <p:cNvSpPr/>
            <p:nvPr/>
          </p:nvSpPr>
          <p:spPr>
            <a:xfrm>
              <a:off x="6184080" y="443376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5" name="Rectangle 31"/>
            <p:cNvSpPr/>
            <p:nvPr/>
          </p:nvSpPr>
          <p:spPr>
            <a:xfrm>
              <a:off x="5432400" y="443376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6" name="Rectangle 32"/>
            <p:cNvSpPr/>
            <p:nvPr/>
          </p:nvSpPr>
          <p:spPr>
            <a:xfrm>
              <a:off x="6184080" y="375912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7" name="Rectangle 33"/>
            <p:cNvSpPr/>
            <p:nvPr/>
          </p:nvSpPr>
          <p:spPr>
            <a:xfrm>
              <a:off x="5432400" y="375912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8" name="Line 34"/>
            <p:cNvSpPr/>
            <p:nvPr/>
          </p:nvSpPr>
          <p:spPr>
            <a:xfrm>
              <a:off x="5432400" y="375912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9" name="Line 35"/>
            <p:cNvSpPr/>
            <p:nvPr/>
          </p:nvSpPr>
          <p:spPr>
            <a:xfrm>
              <a:off x="5432400" y="443376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0" name="Line 36"/>
            <p:cNvSpPr/>
            <p:nvPr/>
          </p:nvSpPr>
          <p:spPr>
            <a:xfrm>
              <a:off x="5432400" y="511956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1" name="Line 37"/>
            <p:cNvSpPr/>
            <p:nvPr/>
          </p:nvSpPr>
          <p:spPr>
            <a:xfrm>
              <a:off x="543240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2" name="Line 38"/>
            <p:cNvSpPr/>
            <p:nvPr/>
          </p:nvSpPr>
          <p:spPr>
            <a:xfrm>
              <a:off x="6184080" y="375912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3" name="Line 39"/>
            <p:cNvSpPr/>
            <p:nvPr/>
          </p:nvSpPr>
          <p:spPr>
            <a:xfrm>
              <a:off x="693576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04" name="Text Box 40"/>
          <p:cNvSpPr/>
          <p:nvPr/>
        </p:nvSpPr>
        <p:spPr>
          <a:xfrm>
            <a:off x="5495760" y="3649680"/>
            <a:ext cx="15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话 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05" name="Group 29"/>
          <p:cNvGrpSpPr/>
          <p:nvPr/>
        </p:nvGrpSpPr>
        <p:grpSpPr>
          <a:xfrm>
            <a:off x="7012080" y="3755880"/>
            <a:ext cx="1503360" cy="1359000"/>
            <a:chOff x="7012080" y="3755880"/>
            <a:chExt cx="1503360" cy="1359000"/>
          </a:xfrm>
        </p:grpSpPr>
        <p:sp>
          <p:nvSpPr>
            <p:cNvPr id="606" name="Rectangle 30"/>
            <p:cNvSpPr/>
            <p:nvPr/>
          </p:nvSpPr>
          <p:spPr>
            <a:xfrm>
              <a:off x="7763760" y="4429800"/>
              <a:ext cx="75132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7" name="Rectangle 31"/>
            <p:cNvSpPr/>
            <p:nvPr/>
          </p:nvSpPr>
          <p:spPr>
            <a:xfrm>
              <a:off x="7012080" y="4429800"/>
              <a:ext cx="75168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8" name="Rectangle 32"/>
            <p:cNvSpPr/>
            <p:nvPr/>
          </p:nvSpPr>
          <p:spPr>
            <a:xfrm>
              <a:off x="7763760" y="3755880"/>
              <a:ext cx="75132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9" name="Rectangle 33"/>
            <p:cNvSpPr/>
            <p:nvPr/>
          </p:nvSpPr>
          <p:spPr>
            <a:xfrm>
              <a:off x="7012080" y="3755880"/>
              <a:ext cx="75168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0" name="Line 34"/>
            <p:cNvSpPr/>
            <p:nvPr/>
          </p:nvSpPr>
          <p:spPr>
            <a:xfrm>
              <a:off x="7012080" y="375588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1" name="Line 35"/>
            <p:cNvSpPr/>
            <p:nvPr/>
          </p:nvSpPr>
          <p:spPr>
            <a:xfrm>
              <a:off x="7012080" y="442980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2" name="Line 36"/>
            <p:cNvSpPr/>
            <p:nvPr/>
          </p:nvSpPr>
          <p:spPr>
            <a:xfrm>
              <a:off x="7012080" y="511488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3" name="Line 37"/>
            <p:cNvSpPr/>
            <p:nvPr/>
          </p:nvSpPr>
          <p:spPr>
            <a:xfrm>
              <a:off x="7012080" y="3755880"/>
              <a:ext cx="0" cy="13590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4" name="Line 38"/>
            <p:cNvSpPr/>
            <p:nvPr/>
          </p:nvSpPr>
          <p:spPr>
            <a:xfrm>
              <a:off x="7763760" y="375588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5" name="Line 39"/>
            <p:cNvSpPr/>
            <p:nvPr/>
          </p:nvSpPr>
          <p:spPr>
            <a:xfrm>
              <a:off x="8515440" y="3755880"/>
              <a:ext cx="0" cy="13590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16" name="Text Box 40"/>
          <p:cNvSpPr/>
          <p:nvPr/>
        </p:nvSpPr>
        <p:spPr>
          <a:xfrm>
            <a:off x="7075440" y="3645000"/>
            <a:ext cx="15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际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矩形 8"/>
          <p:cNvSpPr/>
          <p:nvPr/>
        </p:nvSpPr>
        <p:spPr>
          <a:xfrm>
            <a:off x="5846040" y="555480"/>
            <a:ext cx="1521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63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写字有方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18" name="Group 29"/>
          <p:cNvGrpSpPr/>
          <p:nvPr/>
        </p:nvGrpSpPr>
        <p:grpSpPr>
          <a:xfrm>
            <a:off x="1542960" y="1957320"/>
            <a:ext cx="2957400" cy="2609640"/>
            <a:chOff x="1542960" y="1957320"/>
            <a:chExt cx="2957400" cy="2609640"/>
          </a:xfrm>
        </p:grpSpPr>
        <p:sp>
          <p:nvSpPr>
            <p:cNvPr id="619" name="Rectangle 30"/>
            <p:cNvSpPr/>
            <p:nvPr/>
          </p:nvSpPr>
          <p:spPr>
            <a:xfrm>
              <a:off x="3021840" y="3251880"/>
              <a:ext cx="147816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0" name="Rectangle 31"/>
            <p:cNvSpPr/>
            <p:nvPr/>
          </p:nvSpPr>
          <p:spPr>
            <a:xfrm>
              <a:off x="1542960" y="3251880"/>
              <a:ext cx="147888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1" name="Rectangle 32"/>
            <p:cNvSpPr/>
            <p:nvPr/>
          </p:nvSpPr>
          <p:spPr>
            <a:xfrm>
              <a:off x="3021840" y="1957320"/>
              <a:ext cx="1478160" cy="12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2" name="Rectangle 33"/>
            <p:cNvSpPr/>
            <p:nvPr/>
          </p:nvSpPr>
          <p:spPr>
            <a:xfrm>
              <a:off x="1542960" y="1957320"/>
              <a:ext cx="1478880" cy="12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3" name="Line 34"/>
            <p:cNvSpPr/>
            <p:nvPr/>
          </p:nvSpPr>
          <p:spPr>
            <a:xfrm>
              <a:off x="1542960" y="1957320"/>
              <a:ext cx="29574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4" name="Line 35"/>
            <p:cNvSpPr/>
            <p:nvPr/>
          </p:nvSpPr>
          <p:spPr>
            <a:xfrm>
              <a:off x="1542960" y="3251880"/>
              <a:ext cx="2957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5" name="Line 36"/>
            <p:cNvSpPr/>
            <p:nvPr/>
          </p:nvSpPr>
          <p:spPr>
            <a:xfrm>
              <a:off x="1542960" y="4566960"/>
              <a:ext cx="29574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6" name="Line 37"/>
            <p:cNvSpPr/>
            <p:nvPr/>
          </p:nvSpPr>
          <p:spPr>
            <a:xfrm>
              <a:off x="1542960" y="1957320"/>
              <a:ext cx="0" cy="26096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7" name="Line 38"/>
            <p:cNvSpPr/>
            <p:nvPr/>
          </p:nvSpPr>
          <p:spPr>
            <a:xfrm>
              <a:off x="3021840" y="1957320"/>
              <a:ext cx="0" cy="260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8" name="Line 39"/>
            <p:cNvSpPr/>
            <p:nvPr/>
          </p:nvSpPr>
          <p:spPr>
            <a:xfrm>
              <a:off x="4500360" y="1957320"/>
              <a:ext cx="0" cy="26096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29" name="Text Box 40"/>
          <p:cNvSpPr/>
          <p:nvPr/>
        </p:nvSpPr>
        <p:spPr>
          <a:xfrm>
            <a:off x="1671480" y="1773360"/>
            <a:ext cx="599148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99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井 </a:t>
            </a:r>
            <a:endParaRPr b="0" i="1" lang="en-US" sz="19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30" name="Group 29"/>
          <p:cNvGrpSpPr/>
          <p:nvPr/>
        </p:nvGrpSpPr>
        <p:grpSpPr>
          <a:xfrm>
            <a:off x="4968720" y="1943280"/>
            <a:ext cx="2955600" cy="2610720"/>
            <a:chOff x="4968720" y="1943280"/>
            <a:chExt cx="2955600" cy="2610720"/>
          </a:xfrm>
        </p:grpSpPr>
        <p:sp>
          <p:nvSpPr>
            <p:cNvPr id="631" name="Rectangle 30"/>
            <p:cNvSpPr/>
            <p:nvPr/>
          </p:nvSpPr>
          <p:spPr>
            <a:xfrm>
              <a:off x="6446880" y="3238200"/>
              <a:ext cx="1477440" cy="13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2" name="Rectangle 31"/>
            <p:cNvSpPr/>
            <p:nvPr/>
          </p:nvSpPr>
          <p:spPr>
            <a:xfrm>
              <a:off x="4968720" y="3238200"/>
              <a:ext cx="1478160" cy="13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3" name="Rectangle 32"/>
            <p:cNvSpPr/>
            <p:nvPr/>
          </p:nvSpPr>
          <p:spPr>
            <a:xfrm>
              <a:off x="6446880" y="1943280"/>
              <a:ext cx="1477440" cy="12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4" name="Rectangle 33"/>
            <p:cNvSpPr/>
            <p:nvPr/>
          </p:nvSpPr>
          <p:spPr>
            <a:xfrm>
              <a:off x="4968720" y="1943280"/>
              <a:ext cx="1478160" cy="12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5" name="Line 34"/>
            <p:cNvSpPr/>
            <p:nvPr/>
          </p:nvSpPr>
          <p:spPr>
            <a:xfrm>
              <a:off x="4968720" y="1943280"/>
              <a:ext cx="29556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6" name="Line 35"/>
            <p:cNvSpPr/>
            <p:nvPr/>
          </p:nvSpPr>
          <p:spPr>
            <a:xfrm>
              <a:off x="4968720" y="3238200"/>
              <a:ext cx="2955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7" name="Line 36"/>
            <p:cNvSpPr/>
            <p:nvPr/>
          </p:nvSpPr>
          <p:spPr>
            <a:xfrm>
              <a:off x="4968720" y="4554000"/>
              <a:ext cx="29556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8" name="Line 37"/>
            <p:cNvSpPr/>
            <p:nvPr/>
          </p:nvSpPr>
          <p:spPr>
            <a:xfrm>
              <a:off x="4968720" y="1943280"/>
              <a:ext cx="0" cy="261072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9" name="Line 38"/>
            <p:cNvSpPr/>
            <p:nvPr/>
          </p:nvSpPr>
          <p:spPr>
            <a:xfrm>
              <a:off x="6446880" y="1943280"/>
              <a:ext cx="0" cy="2610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0" name="Line 39"/>
            <p:cNvSpPr/>
            <p:nvPr/>
          </p:nvSpPr>
          <p:spPr>
            <a:xfrm>
              <a:off x="7924320" y="1943280"/>
              <a:ext cx="0" cy="261072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41" name="Text Box 40"/>
          <p:cNvSpPr/>
          <p:nvPr/>
        </p:nvSpPr>
        <p:spPr>
          <a:xfrm>
            <a:off x="5054760" y="1773360"/>
            <a:ext cx="29732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99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喝 </a:t>
            </a:r>
            <a:endParaRPr b="0" i="1" lang="en-US" sz="19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2" name="任意多边形 1"/>
          <p:cNvSpPr/>
          <p:nvPr/>
        </p:nvSpPr>
        <p:spPr>
          <a:xfrm>
            <a:off x="1905120" y="3181320"/>
            <a:ext cx="2198520" cy="339840"/>
          </a:xfrm>
          <a:custGeom>
            <a:avLst/>
            <a:gdLst/>
            <a:ahLst/>
            <a:rect l="l" t="t" r="r" b="b"/>
            <a:pathLst>
              <a:path w="2198619" h="338181">
                <a:moveTo>
                  <a:pt x="60163" y="229837"/>
                </a:moveTo>
                <a:cubicBezTo>
                  <a:pt x="7847" y="234386"/>
                  <a:pt x="-10350" y="213914"/>
                  <a:pt x="5572" y="229837"/>
                </a:cubicBezTo>
                <a:cubicBezTo>
                  <a:pt x="21494" y="245760"/>
                  <a:pt x="114754" y="309450"/>
                  <a:pt x="155697" y="325372"/>
                </a:cubicBezTo>
                <a:cubicBezTo>
                  <a:pt x="196640" y="341295"/>
                  <a:pt x="82909" y="343569"/>
                  <a:pt x="251231" y="325372"/>
                </a:cubicBezTo>
                <a:cubicBezTo>
                  <a:pt x="419553" y="307175"/>
                  <a:pt x="858556" y="241211"/>
                  <a:pt x="1165631" y="216190"/>
                </a:cubicBezTo>
                <a:cubicBezTo>
                  <a:pt x="1472706" y="191169"/>
                  <a:pt x="1927631" y="188894"/>
                  <a:pt x="2093679" y="175246"/>
                </a:cubicBezTo>
                <a:cubicBezTo>
                  <a:pt x="2259727" y="161598"/>
                  <a:pt x="2184664" y="161599"/>
                  <a:pt x="2161918" y="134303"/>
                </a:cubicBezTo>
                <a:cubicBezTo>
                  <a:pt x="2139172" y="107007"/>
                  <a:pt x="2020891" y="31945"/>
                  <a:pt x="1957201" y="11473"/>
                </a:cubicBezTo>
                <a:cubicBezTo>
                  <a:pt x="1893511" y="-8999"/>
                  <a:pt x="1873041" y="2374"/>
                  <a:pt x="1779781" y="11473"/>
                </a:cubicBezTo>
                <a:cubicBezTo>
                  <a:pt x="1686521" y="20571"/>
                  <a:pt x="1397643" y="66064"/>
                  <a:pt x="1397643" y="66064"/>
                </a:cubicBezTo>
                <a:lnTo>
                  <a:pt x="319470" y="202542"/>
                </a:lnTo>
                <a:lnTo>
                  <a:pt x="60163" y="22983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3" name="任意多边形 2"/>
          <p:cNvSpPr/>
          <p:nvPr/>
        </p:nvSpPr>
        <p:spPr>
          <a:xfrm>
            <a:off x="6012000" y="3397320"/>
            <a:ext cx="944280" cy="631800"/>
          </a:xfrm>
          <a:custGeom>
            <a:avLst/>
            <a:gdLst/>
            <a:ahLst/>
            <a:rect l="l" t="t" r="r" b="b"/>
            <a:pathLst>
              <a:path w="1018835" h="588259">
                <a:moveTo>
                  <a:pt x="303" y="20691"/>
                </a:moveTo>
                <a:cubicBezTo>
                  <a:pt x="4852" y="47986"/>
                  <a:pt x="84465" y="79831"/>
                  <a:pt x="95838" y="170816"/>
                </a:cubicBezTo>
                <a:cubicBezTo>
                  <a:pt x="107211" y="261801"/>
                  <a:pt x="45796" y="505186"/>
                  <a:pt x="68542" y="566601"/>
                </a:cubicBezTo>
                <a:cubicBezTo>
                  <a:pt x="91288" y="628016"/>
                  <a:pt x="232315" y="539306"/>
                  <a:pt x="232315" y="539306"/>
                </a:cubicBezTo>
                <a:lnTo>
                  <a:pt x="928351" y="430124"/>
                </a:lnTo>
                <a:cubicBezTo>
                  <a:pt x="1058005" y="411927"/>
                  <a:pt x="1010238" y="450596"/>
                  <a:pt x="1010238" y="430124"/>
                </a:cubicBezTo>
                <a:cubicBezTo>
                  <a:pt x="1010238" y="409652"/>
                  <a:pt x="998864" y="318667"/>
                  <a:pt x="928351" y="307294"/>
                </a:cubicBezTo>
                <a:cubicBezTo>
                  <a:pt x="857838" y="295921"/>
                  <a:pt x="709987" y="345963"/>
                  <a:pt x="587157" y="361885"/>
                </a:cubicBezTo>
                <a:cubicBezTo>
                  <a:pt x="464327" y="377807"/>
                  <a:pt x="259611" y="430124"/>
                  <a:pt x="191372" y="402828"/>
                </a:cubicBezTo>
                <a:cubicBezTo>
                  <a:pt x="123133" y="375532"/>
                  <a:pt x="177724" y="250428"/>
                  <a:pt x="177724" y="198112"/>
                </a:cubicBezTo>
                <a:cubicBezTo>
                  <a:pt x="177724" y="145796"/>
                  <a:pt x="193647" y="116226"/>
                  <a:pt x="191372" y="88930"/>
                </a:cubicBezTo>
                <a:cubicBezTo>
                  <a:pt x="189098" y="61635"/>
                  <a:pt x="184549" y="47987"/>
                  <a:pt x="164077" y="34339"/>
                </a:cubicBezTo>
                <a:cubicBezTo>
                  <a:pt x="143605" y="20691"/>
                  <a:pt x="93563" y="16141"/>
                  <a:pt x="68542" y="7043"/>
                </a:cubicBezTo>
                <a:cubicBezTo>
                  <a:pt x="43521" y="-2055"/>
                  <a:pt x="-4246" y="-6604"/>
                  <a:pt x="303" y="2069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01:26:00Z</dcterms:created>
  <dc:creator/>
  <dc:description/>
  <dc:language>en-US</dc:language>
  <cp:lastModifiedBy>万润仪器贸易公司</cp:lastModifiedBy>
  <dcterms:modified xsi:type="dcterms:W3CDTF">2020-08-19T01:43:19Z</dcterms:modified>
  <cp:revision>4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